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B20-2041-4A9F-89CF-B6A1644B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A3C-6AC3-4937-A0AC-CD680B83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2FD-1499-4A24-BAC8-54A19806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052-7E11-4F77-AD86-5A316533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DC2-A9F4-4867-B0E4-CDDA922A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307-898F-4ED3-9F49-F6C815A6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A14-5644-4272-A9CA-E45E1897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B31-C902-4E7E-9147-06A8BB98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D76-548E-4E08-A4C0-CE0DFA58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533-7CCA-4E9D-8073-E21815F9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BD2-E347-4742-9F57-775F4D02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548-2833-44C7-AEA7-BC9C162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1E81C-CDB1-4BB4-AE77-3D8FE44E28B4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a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car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oo%20many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ter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m%2013%20fi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av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l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ark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head.mp3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ois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ain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ats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y dear Joh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151600" y="2597040"/>
            <a:ext cx="442584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51600" y="2840040"/>
            <a:ext cx="442584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51600" y="2935440"/>
            <a:ext cx="442584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ts of love from Mom and Dad,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51600" y="2881440"/>
            <a:ext cx="44258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51600" y="2879640"/>
            <a:ext cx="442584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51600" y="2238480"/>
            <a:ext cx="442584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51600" y="2274840"/>
            <a:ext cx="44258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91160" y="1768320"/>
            <a:ext cx="3546360" cy="498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720" y="2519280"/>
            <a:ext cx="414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151600" y="2658960"/>
            <a:ext cx="4425840" cy="32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151600" y="1936800"/>
            <a:ext cx="4425840" cy="465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12:30:52Z</dcterms:created>
  <dc:creator>dominique  camier</dc:creator>
  <dc:description/>
  <dc:language>en-US</dc:language>
  <cp:lastModifiedBy>dominique  camier</cp:lastModifiedBy>
  <dcterms:modified xsi:type="dcterms:W3CDTF">2014-02-01T13:02:24Z</dcterms:modified>
  <cp:revision>15</cp:revision>
  <dc:subject/>
  <dc:title/>
</cp:coreProperties>
</file>